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8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9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A205-3447-4B49-B22C-768781049D3E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457344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liennummernplatzhalter 3"/>
          <p:cNvSpPr/>
          <p:nvPr/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57344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4223-580E-4C6E-941E-FF1236338D60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0914DF57-81A3-475F-B2F6-616D34FA7F9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9680" y="14112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39680" y="2106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756480" y="6602040"/>
            <a:ext cx="1295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" name="Text Box 19"/>
          <p:cNvSpPr/>
          <p:nvPr/>
        </p:nvSpPr>
        <p:spPr>
          <a:xfrm>
            <a:off x="7893000" y="660240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eite </a:t>
            </a:r>
            <a:fld id="{1B9FF753-89DA-4783-A5B2-E2761E860F1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" name="Picture 23" descr="Weltkugel_klein_neu.gif                                        0005A183jeany                          BB53F533: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65040" y="6600600"/>
            <a:ext cx="2895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Times New Roman"/>
              </a:rPr>
              <a:t>As at: 21/09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Grafik 16" descr="gizlogo-standard-rgb.gif"/>
          <p:cNvPicPr/>
          <p:nvPr/>
        </p:nvPicPr>
        <p:blipFill>
          <a:blip r:embed="rId4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53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6B85F0D6-8070-4994-A5EA-49837017D9E9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000" spc="-1" strike="noStrike">
                <a:solidFill>
                  <a:srgbClr val="6e6452"/>
                </a:solidFill>
                <a:latin typeface="Arial Narrow"/>
              </a:rPr>
              <a:t>As at: 21/09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4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rafik 8" descr=""/>
          <p:cNvPicPr/>
          <p:nvPr/>
        </p:nvPicPr>
        <p:blipFill>
          <a:blip r:embed="rId2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59C6F810-84CF-439C-9A8A-35F072B6360A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ftr" idx="5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As at: 21/09/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9" name="Grafik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100" name="Grafik 7" descr=""/>
          <p:cNvPicPr/>
          <p:nvPr/>
        </p:nvPicPr>
        <p:blipFill>
          <a:blip r:embed="rId4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934320" y="65959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2DC6-206C-4538-85FD-62CD87D6795D}" type="datetime">
              <a:rPr b="0" lang="de-DE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    Seite </a:t>
            </a:r>
            <a:fld id="{D6CFCCA4-17B0-4E52-8BC8-5FB6A3013D3F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1" name="Picture 20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99560" y="0"/>
            <a:ext cx="1144440" cy="762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0" y="6624720"/>
            <a:ext cx="9144000" cy="233280"/>
          </a:xfrm>
          <a:prstGeom prst="rect">
            <a:avLst/>
          </a:prstGeom>
          <a:solidFill>
            <a:srgbClr val="93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133720" y="0"/>
            <a:ext cx="701028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93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46" name="Picture 20" descr="Weltkugel_klein_neu.gif                                        0005A183jeany                          BB53F533:"/>
          <p:cNvPicPr/>
          <p:nvPr/>
        </p:nvPicPr>
        <p:blipFill>
          <a:blip r:embed="rId3"/>
          <a:stretch/>
        </p:blipFill>
        <p:spPr>
          <a:xfrm>
            <a:off x="7996320" y="0"/>
            <a:ext cx="1147680" cy="762120"/>
          </a:xfrm>
          <a:prstGeom prst="rect">
            <a:avLst/>
          </a:prstGeom>
          <a:ln w="0">
            <a:noFill/>
          </a:ln>
        </p:spPr>
      </p:pic>
      <p:pic>
        <p:nvPicPr>
          <p:cNvPr id="147" name="Grafik 27" descr="gizlogo-standard-rgb.gif"/>
          <p:cNvPicPr/>
          <p:nvPr/>
        </p:nvPicPr>
        <p:blipFill>
          <a:blip r:embed="rId4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39680" y="14112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039680" y="2106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85840">
              <a:spcBef>
                <a:spcPts val="601"/>
              </a:spcBef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5840">
              <a:spcBef>
                <a:spcPts val="601"/>
              </a:spcBef>
              <a:buClr>
                <a:srgbClr val="c80f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0600" indent="-260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Grafik 27" descr="gizlogo-standard-rgb.gif"/>
          <p:cNvPicPr/>
          <p:nvPr/>
        </p:nvPicPr>
        <p:blipFill>
          <a:blip r:embed="rId2"/>
          <a:srcRect l="0" t="13759" r="0" b="19569"/>
          <a:stretch/>
        </p:blipFill>
        <p:spPr>
          <a:xfrm>
            <a:off x="276120" y="76320"/>
            <a:ext cx="900360" cy="6001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52640" y="990360"/>
            <a:ext cx="75578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Plan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irane aktivnosti 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GIZ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-a,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su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finan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sirane od 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EU 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 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39680" y="1849320"/>
            <a:ext cx="77234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Cilj je da 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poslije katastrofalnih popla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ponovno uspostavi i unaprijedi konkurentnosti odabranih poslovnih lokaliteta i MSP-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I</a:t>
            </a:r>
            <a:r>
              <a:rPr b="1" lang="bs-BA" sz="1600" spc="-1" strike="noStrike">
                <a:solidFill>
                  <a:srgbClr val="c80f0f"/>
                </a:solidFill>
                <a:latin typeface="Arial"/>
              </a:rPr>
              <a:t>nicijalna</a:t>
            </a: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 </a:t>
            </a:r>
            <a:r>
              <a:rPr b="1" lang="bs-BA" sz="1600" spc="-1" strike="noStrike">
                <a:solidFill>
                  <a:srgbClr val="c80f0f"/>
                </a:solidFill>
                <a:latin typeface="Arial"/>
              </a:rPr>
              <a:t>faza u trajanju od</a:t>
            </a: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 12 m</a:t>
            </a:r>
            <a:r>
              <a:rPr b="1" lang="bs-BA" sz="1600" spc="-1" strike="noStrike">
                <a:solidFill>
                  <a:srgbClr val="c80f0f"/>
                </a:solidFill>
                <a:latin typeface="Arial"/>
              </a:rPr>
              <a:t>jeseci</a:t>
            </a:r>
            <a:r>
              <a:rPr b="1" lang="en-US" sz="1600" spc="-1" strike="noStrike">
                <a:solidFill>
                  <a:srgbClr val="c80f0f"/>
                </a:solidFill>
                <a:latin typeface="Arial"/>
              </a:rPr>
              <a:t>: </a:t>
            </a:r>
            <a:r>
              <a:rPr b="0" lang="bs-BA" sz="1600" spc="-1" strike="noStrike">
                <a:solidFill>
                  <a:srgbClr val="c80f0f"/>
                </a:solidFill>
                <a:latin typeface="Arial"/>
              </a:rPr>
              <a:t>podrška u obnovi (davanje </a:t>
            </a:r>
            <a:r>
              <a:rPr b="1" lang="bs-BA" sz="1600" spc="-1" strike="noStrike">
                <a:solidFill>
                  <a:srgbClr val="c80f0f"/>
                </a:solidFill>
                <a:latin typeface="Arial"/>
              </a:rPr>
              <a:t>grantova</a:t>
            </a:r>
            <a:r>
              <a:rPr b="0" lang="bs-BA" sz="1600" spc="-1" strike="noStrike">
                <a:solidFill>
                  <a:srgbClr val="c80f0f"/>
                </a:solidFill>
                <a:latin typeface="Arial"/>
              </a:rPr>
              <a:t> odabranim MSP-a, u drvnom, metalnom i sektoru agrobiznisa, kako bi se nadoknadile štete </a:t>
            </a:r>
            <a:r>
              <a:rPr b="0" lang="en-US" sz="1600" spc="-1" strike="noStrike">
                <a:solidFill>
                  <a:srgbClr val="c80f0f"/>
                </a:solidFill>
                <a:latin typeface="Arial"/>
              </a:rPr>
              <a:t>&amp;</a:t>
            </a:r>
            <a:r>
              <a:rPr b="0" lang="bs-BA" sz="1600" spc="-1" strike="noStrike">
                <a:solidFill>
                  <a:srgbClr val="c80f0f"/>
                </a:solidFill>
                <a:latin typeface="Arial"/>
              </a:rPr>
              <a:t> gubici</a:t>
            </a:r>
            <a:r>
              <a:rPr b="0" lang="en-US" sz="1600" spc="-1" strike="noStrike">
                <a:solidFill>
                  <a:srgbClr val="c80f0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Oblasti u kojima će se provoditi aktivnost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Jačanje općinskih kapaciteta za upravljan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škole za lokalni ekonomskI razvoj /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, implement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ira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dern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e metode javnog upravljanj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Uspostavljanje Javno privatnog dijalog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implementirati platforme dijalog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jačati tržišno orijentisan i potražnjom vođen razvoj lokalnih ekonomij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 lvl="1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Unapređenje lanca vrijednost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mo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visati lance vrijednosti i koristiti inovativne tehnologi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dž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m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€ /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Vrijem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: ~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– 2017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. godina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dodatnih općin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t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rebaju biti određene naknadno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4" name="Datumsplatzhalter 1"/>
          <p:cNvSpPr/>
          <p:nvPr/>
        </p:nvSpPr>
        <p:spPr>
          <a:xfrm>
            <a:off x="679320" y="6581880"/>
            <a:ext cx="6991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2640" y="990360"/>
            <a:ext cx="75578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U toku</a:t>
            </a: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</a:t>
            </a:r>
            <a:r>
              <a:rPr b="0" lang="bs-BA" sz="2400" spc="-1" strike="noStrike">
                <a:solidFill>
                  <a:srgbClr val="c00000"/>
                </a:solidFill>
                <a:latin typeface="Arial"/>
              </a:rPr>
              <a:t>rogram za lokalnu samoupravu i ekonomski razvoj u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BiH (ProLocal)</a:t>
            </a:r>
            <a:br>
              <a:rPr sz="2400"/>
            </a:br>
            <a:r>
              <a:rPr b="0" lang="de-DE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39680" y="1849320"/>
            <a:ext cx="77234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Cilj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konkurentnost odabranih poslovnih lokaliteta i njihovih MSP-a je unaprijeđen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Oblasti u kojima će se provoditi aktivnost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Jačanje kapaciteta upravljanja 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općina, kako bi se podržao ekonomski razvoj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Saradnja između javnog i privatnog sektora,kako bi se ojačala konkurentnost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iranje inkluzivnih poslovnih modela uz lance vrijednosti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dže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€ /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Vrijem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janua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2013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decembar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. godine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bs-BA" sz="1600" spc="-1" strike="noStrike">
                <a:solidFill>
                  <a:srgbClr val="000000"/>
                </a:solidFill>
                <a:latin typeface="Arial"/>
              </a:rPr>
              <a:t>općin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ozarska Dubica, Srbac, </a:t>
            </a:r>
            <a:r>
              <a:rPr b="0" lang="bs-BA" sz="1600" spc="-1" strike="noStrike">
                <a:solidFill>
                  <a:srgbClr val="000000"/>
                </a:solidFill>
                <a:latin typeface="Arial"/>
              </a:rPr>
              <a:t>Gradiška, Laktaši, Teslić, Tešanj, Žepče, Jablanica, Konjic, Prozor-Rama </a:t>
            </a: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7" name="Datumsplatzhalter 1"/>
          <p:cNvSpPr/>
          <p:nvPr/>
        </p:nvSpPr>
        <p:spPr>
          <a:xfrm>
            <a:off x="679320" y="6581880"/>
            <a:ext cx="6991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6:32:57Z</dcterms:created>
  <dc:creator>Michael Gajo</dc:creator>
  <dc:description/>
  <cp:keywords>GIZ-Leerfolie</cp:keywords>
  <dc:language>en-US</dc:language>
  <cp:lastModifiedBy>operater</cp:lastModifiedBy>
  <cp:lastPrinted>2005-12-21T12:33:01Z</cp:lastPrinted>
  <dcterms:modified xsi:type="dcterms:W3CDTF">2014-10-21T09:08:19Z</dcterms:modified>
  <cp:revision>777</cp:revision>
  <dc:subject/>
  <dc:title>Folie 1</dc:title>
</cp:coreProperties>
</file>